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21388388"/>
  <p:notesSz cx="14662150" cy="20926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129160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09520" y="12983040"/>
            <a:ext cx="129160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27760" y="594648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09520" y="1298304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7727760" y="1298304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415872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76680" y="5946480"/>
            <a:ext cx="415872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843480" y="5946480"/>
            <a:ext cx="415872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09520" y="12983040"/>
            <a:ext cx="415872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476680" y="12983040"/>
            <a:ext cx="415872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9843480" y="12983040"/>
            <a:ext cx="415872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09520" y="5946480"/>
            <a:ext cx="129160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lnSpc>
                <a:spcPct val="93000"/>
              </a:lnSpc>
              <a:spcAft>
                <a:spcPts val="1012"/>
              </a:spcAft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129160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63028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7727760" y="5946480"/>
            <a:ext cx="63028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09520" y="1774440"/>
            <a:ext cx="12916080" cy="165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lnSpc>
                <a:spcPct val="93000"/>
              </a:lnSpc>
              <a:spcAft>
                <a:spcPts val="1012"/>
              </a:spcAft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727760" y="5946480"/>
            <a:ext cx="63028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09520" y="1298304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63028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727760" y="594648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27760" y="1298304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09520" y="594648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727760" y="5946480"/>
            <a:ext cx="63028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09520" y="12983040"/>
            <a:ext cx="12916080" cy="64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012"/>
              </a:spcAft>
              <a:buNone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9520" y="1774440"/>
            <a:ext cx="1291608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9520" y="5946480"/>
            <a:ext cx="12916080" cy="134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22860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0340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5840" indent="-15228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0760" indent="-15228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5680" indent="-15408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5680" indent="-15408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5680" indent="-154080">
              <a:lnSpc>
                <a:spcPct val="93000"/>
              </a:lnSpc>
              <a:spcAft>
                <a:spcPts val="10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  <a:tab algn="l" pos="5300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762120" y="2438280"/>
            <a:ext cx="14361840" cy="3059280"/>
          </a:xfrm>
          <a:prstGeom prst="rect">
            <a:avLst/>
          </a:prstGeom>
          <a:solidFill>
            <a:srgbClr val="00a4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Text Box 6"/>
          <p:cNvSpPr/>
          <p:nvPr/>
        </p:nvSpPr>
        <p:spPr>
          <a:xfrm>
            <a:off x="2057400" y="6019920"/>
            <a:ext cx="5715000" cy="13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ufgaben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Ziel der Arbeit ist es einen Quadrokopter vom Typ MikroKopter autonom, mit Hilfe einer On-Board-Kamera und bildverarbei-tenden Verfahren, möglichst genauer einem Objekt zu positio-nieren. Zuvor soll eine GPS-gestützte Grobpositionierung des MikroKopters in der Nähe des gesuchten Objektes erfol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Kon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e beiden Aufgaben werden teilweise mit On-Board Mitteln und teilweise mit Hilfe einer Bodenstation (am Boden befind-liches Notebook) abgearbeit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äh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end des Wegpunktefluges werden die Videodaten der On-Board-Kamera und die Sensordaten des MikroKopters an die Bodenstation übertragen. Mit bildverarbeitenden Verfahren wird das Objekt im Videobild gesucht. Sobald das Objekt detek-tiert wurde, wird der GPS-Flug gestoppt und die Kontrolle an die Bodenstation übergeb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1998"/>
              </a:lnSpc>
              <a:buClr>
                <a:srgbClr val="000000"/>
              </a:buClr>
              <a:buFont typeface="Tahoma"/>
              <a:buChar char="•"/>
              <a:tabLst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msgothic"/>
              </a:rPr>
              <a:t>Boden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1998"/>
              </a:lnSpc>
              <a:buClr>
                <a:srgbClr val="000000"/>
              </a:buClr>
              <a:buFont typeface="Tahoma"/>
              <a:buChar char="•"/>
              <a:tabLst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msgothic"/>
              </a:rPr>
              <a:t>Objektposition im Videobild und der empfangenen Sensordaten, die Abweichung von der Soll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e Bodenstation berechnet fortlaufend, unter Verwendung der detektierten Objektposition im Videobild und der empfangenen Sensordaten, die Abweichung von der Sollposition (Regelab-weichung). Aus dieser Abweichung werden Steuerkommandos generiert und an den MikroKopter zurück gesendet, mit dem Ziel die Regelabweichung zu minimie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ild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7168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e Bildverarbeitung ist darauf ausgelegt ein einfaches, einfar-biges Objekt zu erkennen. Als erstes wird die durch das Weit-winkelobjektiv hervorgerufene Verzerrung beseitigt und Kom-pressionsartefakte sowie Bildrauschen durch einen Gaußfilter entfernt. Um das einfarbige Objekt zu finden, wird eine Trans-formation in einen HSI-Farbraum mit den Anteilen Farbton, Sättigung und Helligkeit vorgenommen. Das Objekt kann durch Wählen passender Intervalle der HSI-Anteile herausgefiltert werden [BHS07]. Anschließend wird eine Blobsuche durch-geführt, mit deren Hilfe zusammenhängende Bildpunkte er-mittelt werden. Der Mittelpunkt des größten gefundenen Blobs wird für die Berechnung der Regelabweichung verwend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54" descr="Bildschirmfoto 2013-05-03 um 09"/>
          <p:cNvPicPr/>
          <p:nvPr/>
        </p:nvPicPr>
        <p:blipFill>
          <a:blip r:embed="rId1"/>
          <a:stretch/>
        </p:blipFill>
        <p:spPr>
          <a:xfrm>
            <a:off x="2057400" y="8839080"/>
            <a:ext cx="5715000" cy="21402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4"/>
          <p:cNvSpPr/>
          <p:nvPr/>
        </p:nvSpPr>
        <p:spPr>
          <a:xfrm>
            <a:off x="2057400" y="3538800"/>
            <a:ext cx="12192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605480"/>
                <a:tab algn="l" pos="5118120"/>
                <a:tab algn="l" pos="5629320"/>
                <a:tab algn="l" pos="6140520"/>
                <a:tab algn="l" pos="6653160"/>
                <a:tab algn="l" pos="716436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Max. Schriftgröße 32, max. 2-zeilig, ZA Schriftgröße +4 Kameragestützte Feinpositionierung eines Quadrokop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850"/>
              </a:spcBef>
              <a:spcAft>
                <a:spcPts val="437"/>
              </a:spcAft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605480"/>
                <a:tab algn="l" pos="5118120"/>
                <a:tab algn="l" pos="5629320"/>
                <a:tab algn="l" pos="6140520"/>
                <a:tab algn="l" pos="6653160"/>
                <a:tab algn="l" pos="716436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regor Land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605480"/>
                <a:tab algn="l" pos="5118120"/>
                <a:tab algn="l" pos="5629320"/>
                <a:tab algn="l" pos="6140520"/>
                <a:tab algn="l" pos="6653160"/>
                <a:tab algn="l" pos="716436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iplomarbeit • Studiengang Informatik • Fachbereich Informatik und Medien • 07.03.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534520" y="6019920"/>
            <a:ext cx="5715000" cy="13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Reg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us der ermittelten Abweichung von der Sollposition werden Steuerkommandos für den MikroKopter berechnet, die der Ab-weichung entgegenwirken. Diese Aufgabe übernimmt ein Pro-portional-Differential-Integral- Regler (PID-Regler).Der P-Reg-ler generiert Steuerkommandos proportional zu der Größe der Regelabweichung. Der D-Regler erzeugt Kommandos, welche einer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Ä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nderung der Regelabweichung entgegenwir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Test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e Auswertung der Positionsregelung erfolgt mit Hilfe einer Bodenkamera, die die Bewegung des MikroKopter entlang einer genau definierten Fluglinie aufzeichnet. Mit einem Bewertungs-tool wird die Position des MikroKopters im aufgezeichneten Vi-deo frameweise markiert und in metrische Werte umgere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as linke Diagramm zeigt die Abweichung des MikroKopters von der Sollposition mit und ohne Störgröße. Die Störgröße wurde mit einem Standventilator mit eingeschalteter Schwenk-funktion erzeugt. Es ist zu sehen, dass die Position ohne eine Störgröße auf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±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20 cm genau gehalten wird. Wird der Ventilator eingeschaltet vergrößert sich die Abweichung auf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±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40 cm. Im rechten Diagramm wurde der MikroKopter mit zwei verschiede-nen Geschwindigkeiten in den Bereich des zu suchenden Ob-jektes geflogen. Dem Diagramm ist zu entnehmen, dass der MikroKopter abbremst und nach ca. 10 Sekunden seine Posi-tion über dem Objekt stabilisiert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 dieser Arbeit wurde gezeigt, dass eine autonome kamera-gestützte Positionierung des MikroKopters möglich ist. Die Ge-nauigkeit der Positionierung, die mit dem entwickelten System erreicht wurde, übersteigt die Möglichkeiten einer reinen GPS-basierten Lösung deut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Qu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[BHS07] Boersch, Ingo ; Heinsohn, Jochen ; Socher, Rolf: </a:t>
            </a:r>
            <a:r>
              <a:rPr b="0" i="1" lang="de-DE" sz="1400" spc="-1" strike="noStrike">
                <a:solidFill>
                  <a:srgbClr val="000000"/>
                </a:solidFill>
                <a:latin typeface="Tahoma"/>
              </a:rPr>
              <a:t>Wissensverarbeitung: Eine Einführung in die Künstliche Intelligenz für Informatiker und Ingenieure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 2. Auflage, Spektrum Akademischer Verlag, 200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3" descr=""/>
          <p:cNvPicPr/>
          <p:nvPr/>
        </p:nvPicPr>
        <p:blipFill>
          <a:blip r:embed="rId2"/>
          <a:stretch/>
        </p:blipFill>
        <p:spPr>
          <a:xfrm>
            <a:off x="560520" y="431640"/>
            <a:ext cx="2733480" cy="1665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4"/>
          <p:cNvSpPr/>
          <p:nvPr/>
        </p:nvSpPr>
        <p:spPr>
          <a:xfrm>
            <a:off x="2057400" y="20451600"/>
            <a:ext cx="118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605480"/>
                <a:tab algn="l" pos="5118120"/>
                <a:tab algn="l" pos="5629320"/>
                <a:tab algn="l" pos="6140520"/>
                <a:tab algn="l" pos="6653160"/>
                <a:tab algn="l" pos="7164360"/>
                <a:tab algn="l" pos="7675560"/>
                <a:tab algn="l" pos="8188200"/>
                <a:tab algn="l" pos="8699400"/>
                <a:tab algn="l" pos="9207360"/>
                <a:tab algn="l" pos="9718560"/>
                <a:tab algn="l" pos="10231560"/>
                <a:tab algn="l" pos="10742760"/>
                <a:tab algn="l" pos="11253960"/>
                <a:tab algn="l" pos="11766600"/>
                <a:tab algn="l" pos="12277800"/>
                <a:tab algn="l" pos="12789000"/>
                <a:tab algn="l" pos="13301640"/>
                <a:tab algn="l" pos="1381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Betreuung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Prof. Dr. sc. techn. Harald Loose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Technische Hochschule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Brandenburg •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Dr. Tino Schonert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Stadtwerke Brandenburg an der H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7"/>
          <p:cNvSpPr/>
          <p:nvPr/>
        </p:nvSpPr>
        <p:spPr>
          <a:xfrm>
            <a:off x="77760" y="15486120"/>
            <a:ext cx="130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1" descr="Bildschirmfoto 2013-05-03 um 09"/>
          <p:cNvPicPr/>
          <p:nvPr/>
        </p:nvPicPr>
        <p:blipFill>
          <a:blip r:embed="rId3"/>
          <a:stretch/>
        </p:blipFill>
        <p:spPr>
          <a:xfrm>
            <a:off x="8534520" y="13487400"/>
            <a:ext cx="5715000" cy="1338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2"/>
          <p:cNvSpPr/>
          <p:nvPr/>
        </p:nvSpPr>
        <p:spPr>
          <a:xfrm>
            <a:off x="8534520" y="14935320"/>
            <a:ext cx="5578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605480"/>
                <a:tab algn="l" pos="5118120"/>
                <a:tab algn="l" pos="5629320"/>
                <a:tab algn="l" pos="6140520"/>
                <a:tab algn="l" pos="6653160"/>
                <a:tab algn="l" pos="7164360"/>
                <a:tab algn="l" pos="7675560"/>
                <a:tab algn="l" pos="8188200"/>
                <a:tab algn="l" pos="8699400"/>
                <a:tab algn="l" pos="9207360"/>
                <a:tab algn="l" pos="9718560"/>
                <a:tab algn="l" pos="10231560"/>
                <a:tab algn="l" pos="10742760"/>
                <a:tab algn="l" pos="11253960"/>
                <a:tab algn="l" pos="11766600"/>
                <a:tab algn="l" pos="12277800"/>
                <a:tab algn="l" pos="12789000"/>
                <a:tab algn="l" pos="13301640"/>
                <a:tab algn="l" pos="138128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bb. 2: Diagra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5"/>
          <p:cNvSpPr/>
          <p:nvPr/>
        </p:nvSpPr>
        <p:spPr>
          <a:xfrm>
            <a:off x="2057400" y="11125080"/>
            <a:ext cx="571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6240"/>
                <a:tab algn="l" pos="2558880"/>
                <a:tab algn="l" pos="3070080"/>
                <a:tab algn="l" pos="3581280"/>
                <a:tab algn="l" pos="4092480"/>
                <a:tab algn="l" pos="4605480"/>
                <a:tab algn="l" pos="5118120"/>
                <a:tab algn="l" pos="5629320"/>
                <a:tab algn="l" pos="6140520"/>
                <a:tab algn="l" pos="6653160"/>
                <a:tab algn="l" pos="7164360"/>
                <a:tab algn="l" pos="7675560"/>
                <a:tab algn="l" pos="8188200"/>
                <a:tab algn="l" pos="8699400"/>
                <a:tab algn="l" pos="9207360"/>
                <a:tab algn="l" pos="9718560"/>
                <a:tab algn="l" pos="10231560"/>
                <a:tab algn="l" pos="10742760"/>
                <a:tab algn="l" pos="11253960"/>
                <a:tab algn="l" pos="11766600"/>
                <a:tab algn="l" pos="12277800"/>
                <a:tab algn="l" pos="12789000"/>
                <a:tab algn="l" pos="13301640"/>
                <a:tab algn="l" pos="138128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bb. 1: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Wegpunktliste und resultierendes Su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1" descr=""/>
          <p:cNvPicPr/>
          <p:nvPr/>
        </p:nvPicPr>
        <p:blipFill>
          <a:blip r:embed="rId4"/>
          <a:stretch/>
        </p:blipFill>
        <p:spPr>
          <a:xfrm>
            <a:off x="0" y="0"/>
            <a:ext cx="6049800" cy="317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Users\Ingo Boersch\Desktop\2015_10_05_THB_FB-IM_Logo_CMYK.emf"/>
          <p:cNvPicPr/>
          <p:nvPr/>
        </p:nvPicPr>
        <p:blipFill>
          <a:blip r:embed="rId5"/>
          <a:stretch/>
        </p:blipFill>
        <p:spPr>
          <a:xfrm>
            <a:off x="0" y="0"/>
            <a:ext cx="6226200" cy="31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go Boersch</dc:creator>
  <dc:description/>
  <dc:language>en-US</dc:language>
  <cp:lastModifiedBy>Ingo Boersch</cp:lastModifiedBy>
  <cp:lastPrinted>2013-05-06T09:29:51Z</cp:lastPrinted>
  <dcterms:modified xsi:type="dcterms:W3CDTF">2016-07-29T11:57:14Z</dcterms:modified>
  <cp:revision>29</cp:revision>
  <dc:subject/>
  <dc:title>Folie 1</dc:title>
</cp:coreProperties>
</file>